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42C-FB7C-4615-A2F2-ABDCF729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CC91-7442-4B85-B4AF-7D328D6C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B3C-D9FF-4BFF-A2F2-AD376AEF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64AB-AABF-400C-98A0-2DBBDDE8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1334-02C6-431E-86A3-FF2C5099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3E00-FDC1-4F04-9746-6AEE9730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99F1-DEFC-463A-B803-3B980AE8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654B-B931-4B61-90F1-A2CAA39B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1966-6872-4B03-A131-E38306A7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0451-4D8E-437D-95BF-A860693F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3052-54D9-4D17-ABD2-305634C6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62EF-F2E1-44BB-9ABD-0727CAFA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91D7-1143-45B8-8361-ABF74342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0BAB-E787-448C-9F31-84A23178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C56E-0A04-49B0-BAAB-0C6758E7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C7DA-6562-4B57-9694-EAB7C45E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3CC8-9A43-4DEC-A054-2D21A47F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91F0-0E9F-4F22-86F5-BBE9C621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BD5-4071-40ED-A047-CACEC24D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4A84-347B-4938-AE6E-6879FB4D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97E2-0D08-4903-A4A8-E5C48EDD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F83E-5113-4EC2-BACB-A0BC4957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D95-0310-41F9-B43D-DB9732EE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3C9-9886-4459-99B8-DDD5E78D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4D05-9F7C-4CBC-8FBA-FFE1965683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68F0-A524-44A0-B0A7-44AD6640DF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ps.ablongman.com/ab_leverduffy_teachtech_2/0,9593,1568290-,00.html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tamath.com/multiple/multiple_choice_questions.html" TargetMode="External"/><Relationship Id="rId2" Type="http://schemas.openxmlformats.org/officeDocument/2006/relationships/hyperlink" Target="http://www.metamath.com/multiple/multiple_choice_questions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086600" cy="25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signing and Planning Technology  Enhanced Instru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42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apter Tw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371600" y="5442120"/>
            <a:ext cx="6705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ynamic Instructional Design  Model (DI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your lear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your objecti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 the learning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ynamic Instructional Design  Model (DI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the learn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your objec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 the learning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teaching and learning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rategies: Step 4 cont.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ing strategies: Methods you will use to assist your students in achieving objecti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ing strategies: Techniques and activities required of students to master 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ynamic Instructional Design Model (DI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the learn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your objec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 the learning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teaching and learning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and select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ynamic Instructional Design Model (DI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the learn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your objec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 the learning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teaching and learning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and select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a summative eval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PA: Design Plan Act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The Lesson Plan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on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380880" y="2671920"/>
            <a:ext cx="8382240" cy="16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Plan well, teach well."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Questions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-P-A system includes the design phase, the ________ plan phase, and the action plan ph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nam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xonom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Questions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_______strategies are the techniques and activities required of students to master cont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br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Questions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________ feedback occurs at the end of the les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vironmen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ruct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arning Environ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rangement of classr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you teach                       </a:t>
            </a:r>
            <a:r>
              <a:rPr b="0" lang="en-US" sz="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Learning Style Surve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Learning Style Survey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lueprint for Learning </a:t>
            </a:r>
            <a:r>
              <a:rPr b="1" lang="en-US" sz="44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sig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143000" y="52135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D-P-A System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signing the Instruction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at the broad pi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aspects of the learning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namic Instructional De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namic Instructional De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d by Robert Gagne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edb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ynamic Instructional Design Model (DI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the learn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your objec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 the learning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teaching and learning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and select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a summative eval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ynamic Instructional Design  Model (DI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your learn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Prescrip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ynamic Instructional Design  Model (DI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your lear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your objecti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Found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loom’s Taxonom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Picture 4" descr="blm"/>
          <p:cNvPicPr/>
          <p:nvPr/>
        </p:nvPicPr>
        <p:blipFill>
          <a:blip r:embed="rId1"/>
          <a:stretch/>
        </p:blipFill>
        <p:spPr>
          <a:xfrm>
            <a:off x="1219320" y="198108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00:53:44Z</dcterms:created>
  <dc:creator>Janna</dc:creator>
  <dc:description/>
  <cp:keywords>TAMU-C</cp:keywords>
  <dc:language>en-US</dc:language>
  <cp:lastModifiedBy>AB_Buckrie</cp:lastModifiedBy>
  <dcterms:modified xsi:type="dcterms:W3CDTF">2017-02-02T08:26:28Z</dcterms:modified>
  <cp:revision>14</cp:revision>
  <dc:subject>ETEC 562 - Chapter 2</dc:subject>
  <dc:title>Designing and Planning Technology  Enhanced Instruction</dc:title>
</cp:coreProperties>
</file>